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067-14BC-485A-9A13-CA27AA17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06C-3A75-4B3E-B59F-83A0B11B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F33-D32F-46F6-9C22-A1CBE231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707-E4CC-4CBA-89D8-17D4E021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A4B-2286-413C-B89D-4396337E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E33-B9C5-4394-82DB-08B96E5E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0C0-0BD0-4479-B4C0-0A041ABA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27B-6D02-4C5E-B889-F1C9D2C1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A21-33AF-4D07-9063-17282E3C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607-50E2-4DA3-A6F2-48CA2BF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41B-C548-46B5-9F94-6E60319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FEF-A6AC-4404-8EDB-F7A8E3D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D0AEF-31C3-4811-A525-7AE7C9CBC6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2:35:01Z</dcterms:created>
  <dc:creator>a chapman</dc:creator>
  <dc:description/>
  <dc:language>en-US</dc:language>
  <cp:lastModifiedBy/>
  <cp:revision>1</cp:revision>
  <dc:subject/>
  <dc:title/>
</cp:coreProperties>
</file>